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2E3-DBE6-47DA-A455-0436914C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70484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284-F26A-48A3-BDF5-D1FD1A0C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B40-014D-4592-BD4B-4B277364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70484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70484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70484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DB8-BA9D-4887-8645-FCDE03B8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2AA1-8D2B-4BFA-953F-36657DBD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8737-EDBB-4265-AADB-8B2435B1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9814-AE13-460F-99FB-464BA0F3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C120-CA08-4296-94B4-CE352B0D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C232-BCC1-46F8-B767-726FAA53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F772-D55F-4A9C-B602-37AFE37D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B3F2-C233-410E-A36D-F16970C8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D07-02C6-4BD5-898D-F813A07D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5939-0302-4CD3-96E9-C579557F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70484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5B2D-3DEE-4B2C-AD73-133BD1CE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70484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3290-16A2-4896-9832-D507CE4D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EEEE-E4B7-4AE8-9BD7-616DEE4E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70484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70484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70484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15D1-3E9B-4B1C-AFC1-AD1DE472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EB2-1358-4FF3-905D-6D4A7C04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520-D498-45C8-A0E9-C7E17A44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E1C-04B9-4EF5-B37B-529FD5FA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326-2632-44A4-875C-2634CA29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FD3-2E3E-43E0-8EF4-CE1CB9C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C97-BBF1-4EFB-8325-74259B42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70484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782-8F60-43DF-B21C-6447430B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96AA-88E7-44D0-AD72-29184A4F9E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99BA-5998-4C44-8281-59952D7C0E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hapter 18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INDUSTRIAL SOCIET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5833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roads, 1870 and 189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ems of Grow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58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se competition among railro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orts to share freight in an orderly way fa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Panic of 1893, bankers gain control of  railroad corpo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ers impose order by consolidating to eliminate competition, increase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00, seven giant rail systems do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 Industrial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semer process of refining steel permits mass prod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steel changes agriculture, manufacturing, transportation,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rnegie and Ste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099880"/>
            <a:ext cx="8153280" cy="540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-scale steel production requ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iron ore deposits in Minneso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ve transportation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ments lead to “vertical integra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 A type of organization in which a single company owns and controls the entire process from obtaining raw materials to manufacture and sale of the finished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rnegie and Ste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2099880"/>
            <a:ext cx="8001000" cy="540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2: Andrew Carnegie enters steel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01, Carnegie employs 20,000 and produces more steel than Great Bri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ls out to J. P. Mo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gan heads incorporation of the United States Steel Comp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teel Production, 1880–191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52448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ckefeller and O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roleum profitable as kerosene for ligh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59: First oil well drilled in Pennsylvan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63: John D. Rockefeller organizes Standard Oil Company of Oh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ckefeller lowers costs, improves quality, establishes efficient marketing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Oil Trust centralizes Rockefeller control of member companies outside Oh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usiness of Inv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nineteenth-century industry leads to new American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ge of I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graph, camera, processed foods, telephone, phonograph, incandescent l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ity in growing use by 1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tents Issued, by Decade, 1850–1899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672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ell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2099880"/>
            <a:ext cx="8076960" cy="540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becomes a science in late 180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becomes com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ways of selling include chain store, department store, brand name, mail-or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become a community of consu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al Develop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nineteenth-century U.S. offers ideal conditions for rapid industrial grow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undance of cheap natur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pools of la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free trade market in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, government support without re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growth 1865–19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Wage Earn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2099880"/>
            <a:ext cx="8153280" cy="540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bor of millions of men and women built the new industrial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5–1900 real wages rose, working conditions improved, and workers’ national influence incre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and educational services expanded benefiting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ing Men, Working Women, Working Child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low w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wages: $400-500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ary required for decent living: $600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gerous work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lroad injury rate: 1 in 26, death rate 1 in 3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y workers suffer chronic illness from pollu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ing Men, Working Women, Working Child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ion of the labor force by 1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 wo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represented in 296 of 303 occup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of girls employed, 20% of b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 labor” means under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hildren poorly p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receive much lower wage than bo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ing Men, Working Women, Working Child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women’s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young and si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% of married African American women work in 1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women’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move into clerical pos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ew occupy professional pos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women’s earnings unequal to men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ing Men, Working Women, Working Child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iminatory wage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s earn more than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 earn nearly twice as much as w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tes earn more than blacks or A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stants earn more than Catholics or J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 workers earn less at every level and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ese suffer periodic discr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79: California constitution forbids corporations to hire Chin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82: Federal Chinese Exclusion Act prohibits Chinese immigration for 1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ulture of 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ory work habits demand adjustments for  immigrants, rural fol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adjust well enough to ad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more see children advance to better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or Un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labor unions like fraternal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6: Samuel Gompers founds American Federation of La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F.L. seeks practical improvements for wages, work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nores women, African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or Un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567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ed purp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seek to humanize the fac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rs try to apply strict laws of the mar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ts come down on side of owners with injunctions against stri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ra of stri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77: Rail strikes nearly shut down system, over 100 workers killed in suppressing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0–1900: 23,000 stri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or Un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6: Chicago Haymarket incident prompts fears of anarchist upr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2: Coeur d’Alene silver strike crushed by federal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2: Homestead steel str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nkerton detectives as strikebreaking a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nkertons in gun battle with stri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ilitia called into restore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mpted assassination of Carnegie partner Henry Clay Fr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or Strikes, 1870–189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 Empire on Rai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industrial economy based on expansion of the railro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mships made Atlantic crossings twice as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legraph and telephone transformed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dustrialization’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nefits and Cos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of rapid indust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in national power and weal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ing standard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cost of indust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un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ing disparity between rich and p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power of giant corpo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"Emblem of Motion and Power"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575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s transform Americ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rural iso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regional economic spec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mass production, consumption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to organization of modern corpo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 oth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s capture the imagination of the Americ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the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5–1916: U.S. lays over 200,000 miles of track costing billions of doll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es met by government at all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railroad grants prompt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0–1945: Railroads save government $1 billion in freight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deral Land Grants to Railroads as of 187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ilroad Construction, 1830–192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3888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king the Nation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a Trunk Li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tegrated rail system before Civil W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1860 construction and consolidation of trunk lines proceeds rapid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t linked directly with Great Lakes,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railroad system integrated in 1880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 transportation becomes safe, fast, rel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s Across the Contin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2: Congress authorizes the transcontinental railro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on Pacific works westward from Nebraska using Irish labo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Pacific works eastward using Chinese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10, 1869: Tracks meet in Ut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00, four more lines to Pa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7T16:48:58Z</dcterms:created>
  <dc:creator>Timothy Hall</dc:creator>
  <dc:description/>
  <cp:keywords/>
  <dc:language>en-US</dc:language>
  <cp:lastModifiedBy>Teresa Ward User</cp:lastModifiedBy>
  <cp:lastPrinted>2009-03-15T17:09:07Z</cp:lastPrinted>
  <dcterms:modified xsi:type="dcterms:W3CDTF">2006-11-09T17:51:59Z</dcterms:modified>
  <cp:revision>12</cp:revision>
  <dc:subject/>
  <dc:title>THE INDUSTRIAL SOCIETY</dc:title>
</cp:coreProperties>
</file>